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70F-5209-448F-AB02-6A6D0AAF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E1D-9FF1-4EAA-941B-945D6D64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C54-9E29-429E-88D3-0A60E03C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8F2-1A67-4207-B112-D198BB3A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E1D-72F9-4A58-9196-0B6CC2F0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7F0-7A21-4F73-B251-37F87391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F13-90FF-46F9-8521-F5EE3F8E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AB6-27CA-4F5A-BCD5-2EBBF3A7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057-31BB-4978-BFC7-006F6311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56E-49F7-439E-933D-F65AD05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675-5DA9-442F-90BB-2460596D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F20-0965-441E-A761-641168B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CC4D-C2BE-479C-AEB7-24609F7D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d4f6d"/>
                </a:solidFill>
                <a:latin typeface="Arial"/>
              </a:rPr>
              <a:t>Révision Part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'électricité comporte 2 charges opposées. Peux tu nommer les 2 char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Que se passe-t-il quand un objet devient &lt;charge&gt;? Fais en l'illustr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Quels sont les 2 métaux qu'on retrouve dans une p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Qu'est-ce qu'un électrolyte? Peux-tu nommer quelques exemples courant d'électroly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5.      Combien existe-t-il de circuits? Peux-tu les nom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plique (résume) chaque circuit avec des exe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eux-tu illustrer le courant électrique d’une pi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424466"/>
          <p:cNvPicPr/>
          <p:nvPr/>
        </p:nvPicPr>
        <p:blipFill>
          <a:blip r:embed="rId1"/>
          <a:stretch/>
        </p:blipFill>
        <p:spPr>
          <a:xfrm>
            <a:off x="3429000" y="5105520"/>
            <a:ext cx="19749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5:01:38Z</dcterms:created>
  <dc:creator>nbdoe</dc:creator>
  <dc:description/>
  <dc:language>en-US</dc:language>
  <cp:lastModifiedBy>School District 8</cp:lastModifiedBy>
  <dcterms:modified xsi:type="dcterms:W3CDTF">2012-01-18T17:28:17Z</dcterms:modified>
  <cp:revision>44</cp:revision>
  <dc:subject/>
  <dc:title>L’électricité</dc:title>
</cp:coreProperties>
</file>